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91880" y="1854360"/>
            <a:ext cx="591804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19320" y="5549400"/>
            <a:ext cx="5651280" cy="143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1409760" y="4775040"/>
            <a:ext cx="52830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1879560" y="1599840"/>
            <a:ext cx="924552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5000"/>
          </a:bodyPr>
          <a:p>
            <a:pPr marL="765000" indent="-48420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1054800" indent="-45036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34388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89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79560" y="2527200"/>
            <a:ext cx="9245520" cy="444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6426000"/>
            <a:ext cx="88898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861320" y="2628720"/>
            <a:ext cx="32637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46000"/>
          </a:bodyPr>
          <a:p>
            <a:pPr marL="390600" indent="-2620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547560" indent="-243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70380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89064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19240" y="2565000"/>
            <a:ext cx="9245520" cy="386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ccdf2"/>
                </a:solidFill>
                <a:latin typeface="Party LET"/>
              </a:rPr>
              <a:t>Word Work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79560" y="2120400"/>
            <a:ext cx="9245520" cy="445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cfbbfe"/>
                </a:solidFill>
                <a:latin typeface="Party LET"/>
              </a:rPr>
              <a:t>Antonym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39880" y="685800"/>
            <a:ext cx="924552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6c7d9"/>
                </a:solidFill>
                <a:latin typeface="Party LET"/>
              </a:rPr>
              <a:t>Antonym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879560" y="327636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d1cf"/>
                </a:solidFill>
                <a:latin typeface="Savoye LET"/>
              </a:rPr>
              <a:t>Words that have opposite meanings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Party LET"/>
              </a:rPr>
              <a:t>Antonym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voye LET"/>
              </a:rPr>
              <a:t>Which word is a antonym for famished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voye LET"/>
              </a:rPr>
              <a:t>A. ful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voye LET"/>
              </a:rPr>
              <a:t>B. tired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voye LET"/>
              </a:rPr>
              <a:t>C. hungry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4" name=""/>
          <p:cNvSpPr/>
          <p:nvPr/>
        </p:nvSpPr>
        <p:spPr>
          <a:xfrm>
            <a:off x="2044800" y="3492360"/>
            <a:ext cx="1981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500af"/>
                </a:solidFill>
                <a:latin typeface="Savoye LET"/>
                <a:ea typeface="Savoye LET"/>
              </a:rPr>
              <a:t>A. full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5499000" y="3924360"/>
            <a:ext cx="233676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61f7"/>
                </a:solidFill>
                <a:latin typeface="Party LET"/>
              </a:rPr>
              <a:t>Antonym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Which word is an antonym for dry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A. drough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B. sunny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C. damp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8" name=""/>
          <p:cNvSpPr/>
          <p:nvPr/>
        </p:nvSpPr>
        <p:spPr>
          <a:xfrm>
            <a:off x="2120760" y="5219640"/>
            <a:ext cx="2171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14c7a"/>
                </a:solidFill>
                <a:latin typeface="Savoye LET"/>
                <a:ea typeface="Savoye LET"/>
              </a:rPr>
              <a:t>C. damp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5549760" y="3676680"/>
            <a:ext cx="4419720" cy="29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31920" y="2895120"/>
            <a:ext cx="92455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Party LET"/>
              </a:rPr>
              <a:t>Homophone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6f37d"/>
                </a:solidFill>
                <a:latin typeface="Party LET"/>
              </a:rPr>
              <a:t>Homophones</a:t>
            </a:r>
            <a:endParaRPr b="0" lang="en-US" sz="96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cab"/>
                </a:solidFill>
                <a:latin typeface="Savoye LET"/>
              </a:rPr>
              <a:t>Words that sound the same but have different meanings and spellings.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dbcd"/>
                </a:solidFill>
                <a:latin typeface="Party LET"/>
              </a:rPr>
              <a:t>Homophone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d1cf"/>
                </a:solidFill>
                <a:latin typeface="Savoye LET"/>
              </a:rPr>
              <a:t>I used a ladder to paint the ______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d1cf"/>
                </a:solidFill>
                <a:latin typeface="Savoye LET"/>
              </a:rPr>
              <a:t>A.  sealing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d1cf"/>
                </a:solidFill>
                <a:latin typeface="Savoye LET"/>
              </a:rPr>
              <a:t>B. ceiling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15" name=""/>
          <p:cNvSpPr/>
          <p:nvPr/>
        </p:nvSpPr>
        <p:spPr>
          <a:xfrm>
            <a:off x="6662520" y="2635200"/>
            <a:ext cx="1940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7ccfc"/>
                </a:solidFill>
                <a:latin typeface="Savoye LET"/>
                <a:ea typeface="Savoye LET"/>
              </a:rPr>
              <a:t>ceiling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5327640" y="3772080"/>
            <a:ext cx="6191280" cy="44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b66eff"/>
                </a:solidFill>
                <a:latin typeface="Party LET"/>
              </a:rPr>
              <a:t>Homophone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c3ace"/>
                </a:solidFill>
                <a:latin typeface="Savoye LET"/>
              </a:rPr>
              <a:t>We went on a _____ to Alaska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c3ace"/>
                </a:solidFill>
                <a:latin typeface="Savoye LET"/>
              </a:rPr>
              <a:t>A. cruis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c3ace"/>
                </a:solidFill>
                <a:latin typeface="Savoye LET"/>
              </a:rPr>
              <a:t>B. crews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19" name=""/>
          <p:cNvSpPr/>
          <p:nvPr/>
        </p:nvSpPr>
        <p:spPr>
          <a:xfrm>
            <a:off x="4592880" y="2597040"/>
            <a:ext cx="178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7eef3"/>
                </a:solidFill>
                <a:latin typeface="Savoye LET"/>
                <a:ea typeface="Savoye LET"/>
              </a:rPr>
              <a:t>cruise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5511960" y="3860640"/>
            <a:ext cx="5270400" cy="42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3ff98"/>
                </a:solidFill>
                <a:latin typeface="Party LET"/>
              </a:rPr>
              <a:t>Multiple Meaning Words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79560" y="799920"/>
            <a:ext cx="9245520" cy="281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de9f2"/>
                </a:solidFill>
                <a:latin typeface="Party LET"/>
              </a:rPr>
              <a:t>What is a multiple meaning word?</a:t>
            </a:r>
            <a:endParaRPr b="0" lang="en-US" sz="96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082960" y="3403440"/>
            <a:ext cx="9245520" cy="474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d5fc"/>
                </a:solidFill>
                <a:latin typeface="Comic Sans MS"/>
                <a:ea typeface="Comic Sans MS"/>
              </a:rPr>
              <a:t>Words that have more than one meaning. 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d5fc"/>
                </a:solidFill>
                <a:latin typeface="Comic Sans MS"/>
                <a:ea typeface="Comic Sans MS"/>
              </a:rPr>
              <a:t>The meaning of the word depends upon how it is used in the sentence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082960" y="774720"/>
            <a:ext cx="924552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dffb0"/>
                </a:solidFill>
                <a:latin typeface="Party LET"/>
              </a:rPr>
              <a:t>Try some Multiple Meaning Words</a:t>
            </a:r>
            <a:endParaRPr b="0" lang="en-US" sz="72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082960" y="3060720"/>
            <a:ext cx="9245520" cy="576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Name the word that fits best in both blanks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The doctor will _____ her of the disease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She will _____ the meat by rubbing it will salt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A.reliev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B. e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C. cur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81" name=""/>
          <p:cNvSpPr/>
          <p:nvPr/>
        </p:nvSpPr>
        <p:spPr>
          <a:xfrm>
            <a:off x="1752480" y="7365960"/>
            <a:ext cx="30736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b132"/>
                </a:solidFill>
                <a:latin typeface="Savoye LET"/>
                <a:ea typeface="Savoye LET"/>
              </a:rPr>
              <a:t>C. cure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8140680" y="5994360"/>
            <a:ext cx="2197080" cy="2197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5676840" y="5891040"/>
            <a:ext cx="205740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a83"/>
                </a:solidFill>
                <a:latin typeface="Party LET"/>
              </a:rPr>
              <a:t>Try Again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66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We took a stroll along the ______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The crew would not _____ for fear of damaging the boat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A. sidewalk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B. beach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C. water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86" name=""/>
          <p:cNvSpPr/>
          <p:nvPr/>
        </p:nvSpPr>
        <p:spPr>
          <a:xfrm>
            <a:off x="2247840" y="6807240"/>
            <a:ext cx="1917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6133e"/>
                </a:solidFill>
                <a:latin typeface="Savoye LET"/>
                <a:ea typeface="Savoye LET"/>
              </a:rPr>
              <a:t>B. beach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5753160" y="5270400"/>
            <a:ext cx="3038400" cy="40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79560" y="3683160"/>
            <a:ext cx="9245520" cy="29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e6f37d"/>
                </a:solidFill>
                <a:latin typeface="Party LET"/>
              </a:rPr>
              <a:t>Synonym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79560" y="799920"/>
            <a:ext cx="924552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cadbfe"/>
                </a:solidFill>
                <a:latin typeface="Party LET"/>
              </a:rPr>
              <a:t>Synonym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879560" y="347940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adbfe"/>
                </a:solidFill>
                <a:latin typeface="Savoye LET"/>
              </a:rPr>
              <a:t>Words that have similar meanings</a:t>
            </a:r>
            <a:r>
              <a:rPr b="0" lang="en-US" sz="7200" spc="-1" strike="noStrike">
                <a:solidFill>
                  <a:srgbClr val="000000"/>
                </a:solidFill>
                <a:latin typeface="Savoye LET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b00a4"/>
                </a:solidFill>
                <a:latin typeface="Party LET"/>
              </a:rPr>
              <a:t>Synonym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Which word is a synonym for duplicat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A. copy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B. eras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C. delet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93" name=""/>
          <p:cNvSpPr/>
          <p:nvPr/>
        </p:nvSpPr>
        <p:spPr>
          <a:xfrm>
            <a:off x="2103480" y="3536640"/>
            <a:ext cx="2144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a00e6"/>
                </a:solidFill>
                <a:latin typeface="Savoye LET"/>
                <a:ea typeface="Savoye LET"/>
              </a:rPr>
              <a:t>A. copy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5321160" y="3632040"/>
            <a:ext cx="4318200" cy="43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7effb1"/>
                </a:solidFill>
                <a:latin typeface="Party LET"/>
              </a:rPr>
              <a:t>Synonym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Which word is a synonym for magnify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A. smal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B. enlarg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C. shrink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97" name=""/>
          <p:cNvSpPr/>
          <p:nvPr/>
        </p:nvSpPr>
        <p:spPr>
          <a:xfrm>
            <a:off x="2387520" y="4330800"/>
            <a:ext cx="18795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194ff"/>
                </a:solidFill>
                <a:latin typeface="Savoye LET"/>
                <a:ea typeface="Savoye LET"/>
              </a:rPr>
              <a:t>B. enlarge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5599080" y="3670200"/>
            <a:ext cx="3633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